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319E-3122-48BC-93B2-457A325A37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821E-03E8-4E7C-A4A7-669951D4A7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МЕРНОСТЬ СОЗНАНИ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D51F-2728-43B5-B200-5A4D8FF563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мещение теософической и Агни-Йогический 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емиуровне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трехуровневую мод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6435-26C5-4E70-8945-032A67A804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9D95-2C1E-4F6D-9D40-E459825462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 (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 (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5C59-A694-427A-84A1-0442240ADB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нонс рабо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гни Йога, Братство, Ч.1, 4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EABA-1D69-4D16-99C8-BD01320117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AEC4-BD55-4F89-90B8-02A27DC22E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ановка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124B-25C7-494B-A8C0-97E7B89EB7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DF03-942C-4D5D-8280-5D22C93BE8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ак что верно 7-3-11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8C64-044E-408E-9C37-A27DBD9D6E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ановка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мертная триа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02C8-6A96-44EB-BF64-4184A21235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22B5-40F2-4705-BD59-8B78150790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софическая традиц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Физическое т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Эфирный двойник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Пра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Кам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Манас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6. Буддх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7. Атм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7B5-5841-4FAB-9166-8DBD92E3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A01-0B61-4752-9187-A88F09FF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7FF-FB73-4F13-9CDE-9133F0E9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870-5D1B-415E-9EC3-B4AD218C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1AEF-E480-48DB-A8B1-547E2EC5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7F57-F53A-46AC-A07B-2845D079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E172-66AE-4C43-BFEF-B0779ED2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B7A3-B1D4-48D2-A49D-9C33A984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46A3-1016-4DFC-A756-EB5F9875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A97E-CA75-40DE-BD84-89F8E884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F7F4-E827-412A-9B2F-189F5D82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07E-3E38-4532-8902-DA001464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AF82-1C6B-4542-B1A8-59C96F55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17A6-873A-401E-9055-A7514F09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348C-2270-4B0E-9253-CA9EBB1B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3C6B-CA62-4992-9C32-259BF98E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AE90-F71B-4C3C-AF45-C6D821B7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56AA-CCA9-4C92-B8FD-C11CD311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850-05F8-4AD5-BE9E-9CF09A34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77A-0694-4AD0-BFD9-D9F707B7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2A4-6014-46F8-9C6A-90FDC803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110-251A-486D-A144-3474AF1E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EB0-9587-40FB-89C0-9619958B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E9D-DE9B-4807-9D55-05254E96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72AC-C1F0-4D7F-AD6D-990E460FACF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1688-D260-47ED-9956-2472F2DEA2B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ru.wikipedia.org/wiki/&#1060;&#1072;&#1081;&#1083;:Angelsatmamre-trinity-rublev-1410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68482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НОГОМЕРНОСТЬ СОЗНАНИЯ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564000" y="3049560"/>
            <a:ext cx="353376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8" name="Picture 8" descr="donntu_gerb1"/>
          <p:cNvPicPr/>
          <p:nvPr/>
        </p:nvPicPr>
        <p:blipFill>
          <a:blip r:embed="rId1"/>
          <a:stretch/>
        </p:blipFill>
        <p:spPr>
          <a:xfrm>
            <a:off x="7451640" y="549360"/>
            <a:ext cx="1479600" cy="208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logo2_new"/>
          <p:cNvPicPr/>
          <p:nvPr/>
        </p:nvPicPr>
        <p:blipFill>
          <a:blip r:embed="rId2"/>
          <a:stretch/>
        </p:blipFill>
        <p:spPr>
          <a:xfrm>
            <a:off x="324000" y="2924280"/>
            <a:ext cx="3095640" cy="24508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Совмещение теософической и Агни-Йогический позиции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семиуровнев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трехуровневую модель</a:t>
            </a: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4" descr="2"/>
          <p:cNvPicPr/>
          <p:nvPr/>
        </p:nvPicPr>
        <p:blipFill>
          <a:blip r:embed="rId1"/>
          <a:stretch/>
        </p:blipFill>
        <p:spPr>
          <a:xfrm>
            <a:off x="4643280" y="1557360"/>
            <a:ext cx="4159440" cy="4680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1_"/>
          <p:cNvPicPr/>
          <p:nvPr/>
        </p:nvPicPr>
        <p:blipFill>
          <a:blip r:embed="rId2"/>
          <a:stretch/>
        </p:blipFill>
        <p:spPr>
          <a:xfrm>
            <a:off x="539640" y="1628640"/>
            <a:ext cx="4160880" cy="4399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4284720" y="1773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ыводы (1)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ыводы (2)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Анонс работ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2700" spc="-1" strike="noStrike">
                <a:solidFill>
                  <a:srgbClr val="330066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27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Агни Йога, Братство, Ч.1, 42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43848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1"/>
          <p:cNvPicPr/>
          <p:nvPr/>
        </p:nvPicPr>
        <p:blipFill>
          <a:blip r:embed="rId1"/>
          <a:stretch/>
        </p:blipFill>
        <p:spPr>
          <a:xfrm>
            <a:off x="395280" y="189000"/>
            <a:ext cx="4313160" cy="63514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5003640" y="981000"/>
            <a:ext cx="338472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«физическая и психическая реальности имеют неразрывную взаимосвязь и являются лишь частными случаями еще мало осмысленной в своей многомерной сложности интегральной космической Реа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С.Р.Абл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Так что верно 7-3-11 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21" descr="1_"/>
          <p:cNvPicPr/>
          <p:nvPr/>
        </p:nvPicPr>
        <p:blipFill>
          <a:blip r:embed="rId1"/>
          <a:stretch/>
        </p:blipFill>
        <p:spPr>
          <a:xfrm>
            <a:off x="0" y="1628640"/>
            <a:ext cx="3819600" cy="4038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423px-Banner_of_Peace_from_the_Roerich_Pact.svg.png"/>
          <p:cNvPicPr/>
          <p:nvPr/>
        </p:nvPicPr>
        <p:blipFill>
          <a:blip r:embed="rId2"/>
          <a:stretch/>
        </p:blipFill>
        <p:spPr>
          <a:xfrm>
            <a:off x="4067280" y="2060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5" descr="m_orif"/>
          <p:cNvPicPr/>
          <p:nvPr/>
        </p:nvPicPr>
        <p:blipFill>
          <a:blip r:embed="rId3"/>
          <a:stretch/>
        </p:blipFill>
        <p:spPr>
          <a:xfrm>
            <a:off x="6516720" y="1700280"/>
            <a:ext cx="2333520" cy="381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Angelsatmamre-trinity-rublev-14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1989000"/>
            <a:ext cx="2857320" cy="35625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ссмертная триад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3" name="Picture 5" descr="Фото М. В. Нестеров. Троица Ветхозаветная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1557360"/>
            <a:ext cx="7272360" cy="476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6300720" y="333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Теософическая традиция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1. Физическое те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2. Эфирный двойник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3. Пран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4. Ка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5. Мана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6. Буддх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7. Ат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8:35:35Z</dcterms:created>
  <dc:creator>Fernando Merello</dc:creator>
  <dc:description/>
  <dc:language>en-US</dc:language>
  <cp:lastModifiedBy>LEGION</cp:lastModifiedBy>
  <dcterms:modified xsi:type="dcterms:W3CDTF">2014-11-11T07:57:02Z</dcterms:modified>
  <cp:revision>46</cp:revision>
  <dc:subject/>
  <dc:title>COIN Project: lessons learned during the first year of the project</dc:title>
</cp:coreProperties>
</file>